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049-1F65-41AE-A710-35CF7C2B7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FB24-1EE2-40AF-8924-969FDA0F5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109-F1BF-4DFE-BDC5-BEA307042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B5E-E276-451B-90D8-C8EC2283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567-EBB2-4CCE-ABE5-3BD0876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3A1-286E-4A25-82D8-78546238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617-453C-46D8-A5B9-29DAFB88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647-54A5-47B0-910E-54AE8B9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D5A-172B-4EFA-B464-00E2F6B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9E7-ED95-4261-A0E8-6484A4A7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152-7BF0-4A5F-9F8D-2127C828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F7B-6E22-4312-AB35-D916A71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C20-F258-4912-8A6B-529D64E6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91C-998F-4DFD-9AE9-A23F553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34D-2071-4CC4-B338-1A62E62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19AB-8E96-4397-A4C2-A371337E8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Connections/Anchor Cha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to self*text to text* text to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828800" y="2338560"/>
            <a:ext cx="533412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828800" y="1752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371600" y="1523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981080" y="2338560"/>
            <a:ext cx="5029200" cy="3466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752480" y="1600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752480" y="11430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#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8098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286000" y="457200"/>
            <a:ext cx="4419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servation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5257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ion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791320" cy="1143000"/>
          </a:xfrm>
          <a:prstGeom prst="rect">
            <a:avLst/>
          </a:prstGeom>
          <a:noFill/>
          <a:ln w="9360">
            <a:solidFill>
              <a:srgbClr val="000000">
                <a:alpha val="97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ndering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733560" cy="4978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514600" y="533520"/>
            <a:ext cx="4343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Focus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20:26Z</dcterms:created>
  <dc:creator>HISD</dc:creator>
  <dc:description/>
  <dc:language>en-US</dc:language>
  <cp:lastModifiedBy>HISD</cp:lastModifiedBy>
  <dcterms:modified xsi:type="dcterms:W3CDTF">2010-10-13T23:57:42Z</dcterms:modified>
  <cp:revision>6</cp:revision>
  <dc:subject/>
  <dc:title>Slide 1</dc:title>
</cp:coreProperties>
</file>